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FC8-BC31-4C51-8072-FC07199F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6F92-B28C-47C9-B674-B38E1D51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8AF12-DF74-4FB1-BC23-F92ED90B6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19BE00-7A50-4BA2-ACCB-FE05086E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2CC4D2-40CF-4866-B1C1-E86E5AD9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94A4FD-6D89-4069-B47F-A1D7BEC9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9DF51-2161-4944-B8B5-01939990B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8FB82E-9D1A-4FE7-BDF6-F0964FE2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AABDCE-724C-4604-9441-CC1CF219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00339-7CB7-4584-AEC4-0A82F0D3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E243E-99B7-49CF-9C38-C195F9CB5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73EDA-B338-4199-8A85-EA261A35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F42-6B09-4DA0-9DDF-3F9E76E57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3A365-B400-49A1-977D-93C50C711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4A501E-4F30-4263-A7C1-2F3810A8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F026FF-3391-4E87-A31C-3B12779A1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433BE-8063-424B-A662-18BF452FD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048E7C-91F8-431D-AD22-10E5EC545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8424E-3CEC-4669-B6F3-A65CFED00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AA422E-D414-43D1-B2DE-16AA74366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AEA510-6E07-4AAD-BDDB-9B6B360B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8E0F15-94A4-445E-AF7E-71F1EAE6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C08525-A537-4479-84A8-3255B98DD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CE9-6E13-4CE7-A9F9-1547740F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8CCA73-1476-44F4-97A9-E23156244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3CEFE-EF98-4DC2-BEAF-7D9EE4AC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F2CAD0-3734-43AF-99F8-1C4F935E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C87673-AD4D-4146-A95D-DB995052C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0F7953-28CF-4676-8C72-52308D2E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E0215-86B2-4BCE-A6C4-0BEA69A6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66B620-C5EF-4916-86AA-B0C1F3EE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74098F-49B4-4F0A-84E2-8C569240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CBB00C-4715-4140-854C-21DB7004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D019D5-E3EA-43AC-808F-5C504255F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11C5-7FC8-4CAB-9C70-08023B58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5F6343-DD37-46F6-AB6F-8ED2D2A6D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CBE6E-A12C-4E75-9F76-964DDF386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9571A4-9C3A-42F2-A2B9-BE65E16E8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B46534-0FE3-44B6-B434-BEF48C5A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B1A17F-D53E-4D33-8449-4E39FD028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7B923E-3DA4-4934-9D62-7F885A32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9A282E-B6AA-4E66-AF91-C7C92AA47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D4E87-A32C-4CF4-98F5-D606C602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CB574-43F6-4130-96BD-B6DCEB04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1E7973-45D1-427F-BFE7-8AC3B699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D9A25-3B76-485B-990B-FA48E1E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C0ACC9-B592-4E55-A4C3-E2944DD8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0D1D2E-F698-4038-9A9E-94BC9228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BEF6E-5C34-4979-AD55-6B2FB3EE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17965-64B8-4516-98C9-73B85979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19AAD9-2F2A-48E7-8B59-538B0167C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A6BC73-56D9-492A-90B7-3F7147344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3D2F92-1A9B-421D-80E8-BA3BA508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D0E788-338D-4DD8-BCCD-6BA0C2D8D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A0528-3E20-44D3-BD8E-19A48538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0921A-2B21-4BBD-98A8-42449139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7F6C-2627-44A7-88AB-5E34467E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46B9D-4051-46CC-928D-27E2DAFDF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63DF22-C64D-4EC4-AF16-449D8CBA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544FCE-BF6C-4D35-8661-9AE5C056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D453DF-8B0A-4820-A48D-27FBFF68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C703AF-C04C-48DB-9965-6F3B5B5F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3C90AB-582A-479F-99E7-93A7F4A0E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684C2-80D1-41E6-B510-B76656C76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CE0460-405B-4D99-8512-5D1731738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0AAF9-D151-476B-A7F1-32995EBF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4174F2-0F1C-4B62-9B05-F0CA391CD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1284-136E-4E2A-860A-CB7A0F90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568E7C-F5F1-4778-BC89-D90D49D3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FDB623-7BCD-4CE0-B712-45A2443A7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D08F38-5A5D-4B7C-AA74-21940DD99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8829F8-F8E2-423C-BC8C-F42F3152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624541-35BC-403C-9294-4AFAE4F16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6DFC96-B2BA-427E-BA81-1BD0A3218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AF938F-02DB-45C9-B674-F15CCBEBE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B68708-1477-472C-A3AF-677DC2895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70CEC-1AB8-4F0A-9F37-0837739F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7CD971-B5C0-4755-9D29-339E2E833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1EF-5D3A-4716-8746-25331E26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F09FBB-7D48-4F10-A586-647C49EE7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CA7DC2-29B5-4F37-95FB-ECA2204D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E4E57BD-1DCA-4C30-ABC3-E96583619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1A43B4-BB98-4586-8D54-74CC3BE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B4F234-BCBD-461A-B32B-8E93D227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00297-0CFE-4D3E-B6A5-E8571BE5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A23602-C5B2-4781-9565-68593BB6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80D3FB-464A-434A-A89C-8B9B4044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F19FD3-AA56-4CDF-AF9E-3023C5BA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D9BEC4-9B91-4B19-8D94-74D6906E1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1A8FE-213F-4143-A249-880415797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2DCF33-2BA9-4C5C-B12D-7C610CCD6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0A148-4F74-4977-A998-26292036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CD6304-FC0B-4A35-97A8-EBDCB8B5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3722CE-56BD-4F11-A6F7-EFA460C40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726E01-675F-466D-B5FF-0532D64E7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81D5B-AD72-4946-812A-4AEA53715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6D097B-1096-4C7A-B069-44C566214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AF0E5-AFAE-4D64-B3CD-5D188F2B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D50534-052C-40F9-807C-2B0DCE91D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6367E-1DA6-472F-87DF-4347D016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78A7-0733-452B-81E1-2F7DCC50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B1BE6D-CA63-46DD-8E43-166B6B7E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6E37A-5896-4547-A8A7-23089CB8D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FDD79D1-AE7B-49CF-8B9E-727090896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6F37C05-BA0E-4BDF-A08C-7CE117538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7B8757-15D3-4B47-BC8B-AB7DA87CF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080266-D22C-40C9-AB1E-08096634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900D2C-166F-4596-BE37-E03AECC1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49461F-FFF8-45F9-B19D-C41206DF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38037-EB41-4EE1-ABE3-4BF3C18E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F8ED7B2-9185-41FC-BEFC-AA693632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8EF2-5157-49D8-B3DB-81D7E6AC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F2A1-8C61-4497-A46A-C025290D7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8F3F73-FDD1-4D02-92DF-87C18BE0B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CD2593-C745-4656-861B-B71AAB6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3B6FA3-3F2C-4353-B469-EEE944EBE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2F3A10-AB2A-4B2F-A81D-9FDCC5E6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A5A52-2EAA-490A-AFCC-CAC6F394B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8B0E50-33B4-47F4-84D2-128A742F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1AADB-C0A9-4E64-AD1A-AE93AE60A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9CDD8E-9874-47F1-8693-6C6203BF3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B1B49E-C60B-4E3B-B592-0E957D0A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6446E-DEBD-4E88-8A54-4F163319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00FCC-95A5-4C7D-8D2C-46124A4C0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2DC68F-2946-4AA1-AF89-9DC22BE9F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FB4E65-C3F7-4927-AF8F-F32A2105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099ECB-FEED-45B3-98D9-F97BB510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F64B52-656F-4254-B239-32AEF24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79851B-06EA-46D0-9796-B0D1A5DA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B81071-B3E0-415E-B5C8-25DA3DE6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B78411-AE0E-42E1-B59A-087C47954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6EF68-5630-40DC-BD12-A5B6D56A0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523499-0BDD-4BCD-8DA6-03912A057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15BC1D1-FDAC-46E1-8143-B931798CF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D484-95DA-4247-9E93-B607270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E03E54-0688-4991-A6FB-2376F7F49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097B50-A0DD-48B2-961C-0FDC3FD1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A48901-B4D7-401D-B363-56DAE72F1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3655E5-80BC-4BE0-9EE0-B5540229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5FCF8B-57CB-4EAF-91C4-D8FEBA3E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F1007A-13BC-432E-B7AD-20D28704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7DCE0E8-3130-47FE-B66D-34619A5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811B4-51D4-4061-8AF0-1353BE7FA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4C940B-9897-4633-9492-E81D9BB3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D884D-194D-45D2-B69E-0B66B539F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AB243-C685-432A-BD69-759607080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47497D-3130-4AB0-8B37-D13E8CA5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6106B7-D964-4289-AF10-ADF76472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C6AE42-358D-4E82-9E98-233FD49D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FD62A4-5914-400B-9934-72775CA9A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D04BE8-2330-4BCA-A4A7-EA80F19C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035FBA-F5D8-4348-B9D3-B62EF669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6413BC-B75A-47C1-88CA-CB6B1BBA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8CFC99-2430-4BA6-AFEB-D38C3FE9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5572DD-BBF9-42D3-B749-8303CEE3E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807791-50D5-4BC5-B89B-43317C7CD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BB80-4508-4576-8606-149173357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007EF6-6EED-4AA7-BF36-D8AFC968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70349-B06C-4F18-80A0-F9EDF2F7B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6BAA39-DF4A-4C36-B037-22BD615B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345300-703D-40BE-A087-1347EA04A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500638D-CFF8-4574-B667-948F704C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2A7E8B-36E5-4DCE-98EE-F086AD996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22192-B2A0-49CF-9961-D2B01A79D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BB7B9F-D416-4B6F-B6D3-4C24CE84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654351-69FA-4C72-BDEF-B69B6B6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BC42D9-EF2E-4C58-942C-DDF23893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AE1E0-6C4A-4980-B894-0ACB1B0C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DC130-D324-4D00-84CA-541B89ED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A200ED-9458-4C66-96C8-32DB6039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E5977-3C89-4ADC-960F-9BE9CC4E8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5C430-6E0E-478B-A819-DE545C520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E9252-CDB0-4CE8-A4CF-F298F3AA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B88F3-C165-40D5-9A05-9A3CECF27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41F5E-BC89-4A11-9098-B60AADDE5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2D6E-7B2F-4CE9-9CE8-D546D638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F740B-9249-4639-9AAA-131B31A3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D9A58-DF19-4008-8271-681736213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FE11C6-F8B8-442F-9205-FD1AD353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B886E7-978F-4EAE-867E-4DB4F5F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7625-424A-45D3-9F5A-9510B7850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CE40D-BE50-4759-BF03-B7066D75D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E2C135-8789-4487-80E2-55ADEE8FD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16F69-660B-44E8-9A8C-B6D0985B0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5404-BDB7-428C-8B17-EAC83621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0CF57-F35E-4C2A-8281-BE38B671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FF074-713D-4FFD-9DC2-6C4895828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7C7D8-D21D-4AA8-8234-9F1FF835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30204-C9E7-437A-9AAD-8440EF1C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32E4B-3898-46A3-8D26-20352216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125C98-FBD6-4A39-AFB0-42C9695F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5F6E53-380A-4C34-BF44-EA6C382E4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F57AAC-A520-4793-B1A1-CBA8FC0C9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FA72A-2438-4C83-BF6C-2D836E9E3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68C89E-6A86-4F4F-AB90-1968C8D90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B4DC8-E0F6-4F2E-A394-81D03FA8E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66FC7-362E-4934-8414-3D51F5342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F96-A684-40ED-A5EB-F8548E53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DEBF64-A7A6-41A8-9944-8483682CD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7322C-1BFA-411F-8760-ECB9F7C53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A11DC-8462-4657-86CA-03BEE0D7F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07F2C-6E72-4DD8-9F43-B889A3E0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2DCA-5BB8-4235-8C6E-65965869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F307A-A910-45C3-A295-76067AAD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EF7DB-5DB4-4323-8B68-F3EF3CC1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648C1-91DF-466E-B97E-A07E99E7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4EDEB1-D779-4702-9058-8984EDA5C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EB85-5CF0-4643-85E6-B5253FE38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00C8-2544-484B-B2CD-131C77FB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79B35-040F-4E67-B50C-50F058F79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54CBC-A2C5-4347-8FD6-DBF949BD6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18FC4-B08F-4EAF-A3AE-9819BA12B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D73470-202C-411E-BE3F-2B1389EF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351A5-0850-42B0-8483-07F8B1B34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CEAF67-CBE6-459C-AF77-AF924CC8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34D2-E9C5-4215-AB44-FE3FA5188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3841A-E58A-4715-A63E-05C8EEAA1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3EC815-D923-4E52-BD9F-46A512D25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C8879-D1E0-494C-B49B-BBA05651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E555-B011-41C2-BD25-90B2D6CE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33A634-3DFD-464C-A213-32C37B72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2C418-36C7-4891-A62E-CDCC52387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2CA36A-91E1-46EF-88EE-83828597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1192B-7694-42DE-9849-922D9ABE0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C2143-1575-45CD-8953-84986022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0F7CC-1377-4661-B3D2-5B1302C1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9FE58-F646-4F7A-8A0A-C923C93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372D9-923D-467A-B77B-1A82DDB2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03B18A-601C-4FB3-A925-8F3ABAF2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5D386-C298-405F-9A81-88A07C4D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D658-3964-4940-B92E-B587D323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3629DD-37AE-479B-B996-63F8ADA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1E2E8-DC15-4D92-885F-BE23C4C0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0D47F4-F037-4249-AC76-2F2467C5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1F427-32CC-4A85-A9F3-671A867BB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A93D8-A7BF-40BF-8E27-C3B0AFD7D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F0E5FD-ACF6-42D9-A1A3-48CB2F394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58BB83-5489-414C-8225-058643F4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C349E-E715-4988-8DC2-82DB3ACC3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B9252-52CE-40DA-B88D-1D1AE835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6966F-04C9-4983-BBEB-F7E79F4F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57B6-9FD9-45E7-8F6C-51AC1F10B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5B1F28-3FE7-429D-9A87-E76788FB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454F-350D-400E-A59C-079ABF38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E7486-03B8-4D2B-9A6D-7EAB7943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43AD0-B703-4A6E-BBCF-41009300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EA52B-1439-4432-B985-D1C5D446F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0A3DF-EB6C-4F4E-97D3-28026451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105D7-402E-46AF-A7D4-05296231B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E14034-FE58-47DF-AA86-B6E63F91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CB639C-EEB0-4F12-9CAB-6CC8043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AB80E-CF3B-49EA-ABD4-5E99699E9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9146-A051-4BA7-8335-1B8C8591D3B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A41F-B81A-487F-8675-A317A5E3D5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39E0-DFDD-47E5-962E-EB6A986C1C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FCF7-A96D-423E-A871-E3277B54D9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89D0E-D78D-4934-85CA-55126C7DF1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C2186-AFD0-463B-82C9-387D11C23E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FFF1-EFA2-4494-82DE-B61A2A6E70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A8D7A-3FD2-49B5-B53B-6E52F8BD88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FA09-C75C-4352-98F5-F3374DC2BF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4878A-329E-4DA5-8A26-85D57673D0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80FBC-0BA5-44C0-AD74-76C03BC54D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943A-38C8-47FA-9AFB-4FB8EB5B7A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E71C-7D10-4698-A8E0-89F8C41EB6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944D-EBE2-4939-AD23-8019E67D0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E7A78-2D32-4A64-9A80-4D7198DC39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A49C-4F60-4AF6-8331-83CC1A63D7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09A63-38EC-4D68-9A77-A2F488188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4847-154B-485E-BA48-F3209456AE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988D6-4291-469F-9FD5-793AB134A2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B842-19AB-4662-A2A1-DB058AA500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1A13-3493-418D-9291-7198CC440D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B3891-FCBA-4FC9-9758-7431EE5FA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24332-C675-4931-A6F7-E00E672FE2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1F3-A3AF-4F1F-99C1-E14E1A430D6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102F-934E-47E4-A1F9-719D8CE87B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6CF1F-F76D-4094-A180-DD09E91F63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5424-3864-4EFE-BC79-C748B660D34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4712A-4F31-48EF-94DA-2DBD6DE0F1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F735-E864-4024-B052-3A6DA4018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ECE40-E548-4457-AFAC-2CBA451A5A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0B814-0946-4AE8-BA6D-6C7B834F46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02745-474E-43D3-ABA7-6BFF9A4F5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2012-BCF9-4FE1-A398-052C40DFFF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76D3-1CA0-4779-80F5-AF79CABC52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AE72-D34F-4E7A-8AFF-42B4B9424F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CE829-D94A-4E35-B1CB-CB1AC0A663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6DE7-883E-43A3-A487-6A323E001D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9CAE-1093-4065-9FFD-2CF9BE5122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3B5C-ADA4-4D3A-85B4-CD7A743433E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391-3496-47D2-91B5-B75AD0C0CE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50760" y="2708280"/>
            <a:ext cx="89139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图片 69633" descr=""/>
          <p:cNvPicPr/>
          <p:nvPr/>
        </p:nvPicPr>
        <p:blipFill>
          <a:blip r:embed="rId1"/>
          <a:stretch/>
        </p:blipFill>
        <p:spPr>
          <a:xfrm>
            <a:off x="138240" y="716040"/>
            <a:ext cx="886752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8609" descr=""/>
          <p:cNvPicPr/>
          <p:nvPr/>
        </p:nvPicPr>
        <p:blipFill>
          <a:blip r:embed="rId1"/>
          <a:stretch/>
        </p:blipFill>
        <p:spPr>
          <a:xfrm>
            <a:off x="476280" y="963720"/>
            <a:ext cx="8191440" cy="57052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2"/>
          <a:stretch/>
        </p:blipFill>
        <p:spPr>
          <a:xfrm>
            <a:off x="395280" y="981000"/>
            <a:ext cx="6985080" cy="447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324000" y="1744560"/>
            <a:ext cx="698472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395280" y="2435400"/>
            <a:ext cx="6985080" cy="447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468360" y="3198960"/>
            <a:ext cx="698508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468360" y="3903840"/>
            <a:ext cx="8280360" cy="27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147600" y="622440"/>
            <a:ext cx="8848800" cy="619128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2663640" cy="230508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2484360" y="296712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3708360" y="3701880"/>
            <a:ext cx="5364360" cy="3141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6488280" y="2995560"/>
            <a:ext cx="1971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490680" y="1209600"/>
            <a:ext cx="8162640" cy="443880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684360" y="2133720"/>
            <a:ext cx="2447640" cy="39592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2239920" y="1254240"/>
            <a:ext cx="1179720" cy="44748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3419640" y="1916280"/>
            <a:ext cx="5184720" cy="395892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6632640" y="1252440"/>
            <a:ext cx="11793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419040" y="905040"/>
            <a:ext cx="8305920" cy="5047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4427640" y="50990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995640" y="2133720"/>
            <a:ext cx="4680000" cy="26636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6443640" y="4581360"/>
            <a:ext cx="1944720" cy="10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6" name="图片 57352" descr=""/>
          <p:cNvPicPr/>
          <p:nvPr/>
        </p:nvPicPr>
        <p:blipFill>
          <a:blip r:embed="rId1"/>
          <a:stretch/>
        </p:blipFill>
        <p:spPr>
          <a:xfrm>
            <a:off x="681120" y="2257560"/>
            <a:ext cx="7781760" cy="23428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2"/>
          <a:stretch/>
        </p:blipFill>
        <p:spPr>
          <a:xfrm>
            <a:off x="3995640" y="38466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3"/>
          <a:stretch/>
        </p:blipFill>
        <p:spPr>
          <a:xfrm>
            <a:off x="3492360" y="2852640"/>
            <a:ext cx="158436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4"/>
          <a:stretch/>
        </p:blipFill>
        <p:spPr>
          <a:xfrm>
            <a:off x="5435640" y="2421000"/>
            <a:ext cx="25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157320" y="809640"/>
            <a:ext cx="8829360" cy="57150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5867280" y="270828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5867280" y="3573360"/>
            <a:ext cx="288144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796000" y="4322880"/>
            <a:ext cx="2881440" cy="12380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810400" y="5805360"/>
            <a:ext cx="288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5300" descr=""/>
          <p:cNvPicPr/>
          <p:nvPr/>
        </p:nvPicPr>
        <p:blipFill>
          <a:blip r:embed="rId1"/>
          <a:stretch/>
        </p:blipFill>
        <p:spPr>
          <a:xfrm>
            <a:off x="138240" y="1200240"/>
            <a:ext cx="8867520" cy="4457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4140360" y="250668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3822840" y="3284640"/>
            <a:ext cx="5029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7956720" y="255096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7539120" y="32846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6"/>
          <a:stretch/>
        </p:blipFill>
        <p:spPr>
          <a:xfrm>
            <a:off x="3203640" y="4365720"/>
            <a:ext cx="5761080" cy="447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7"/>
          <a:stretch/>
        </p:blipFill>
        <p:spPr>
          <a:xfrm>
            <a:off x="1490760" y="5114880"/>
            <a:ext cx="5761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图片 54276" descr=""/>
          <p:cNvPicPr/>
          <p:nvPr/>
        </p:nvPicPr>
        <p:blipFill>
          <a:blip r:embed="rId1"/>
          <a:stretch/>
        </p:blipFill>
        <p:spPr>
          <a:xfrm>
            <a:off x="514440" y="2019240"/>
            <a:ext cx="8115120" cy="281952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2"/>
          <a:stretch/>
        </p:blipFill>
        <p:spPr>
          <a:xfrm>
            <a:off x="32036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3"/>
          <a:stretch/>
        </p:blipFill>
        <p:spPr>
          <a:xfrm>
            <a:off x="3635280" y="393372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4"/>
          <a:stretch/>
        </p:blipFill>
        <p:spPr>
          <a:xfrm>
            <a:off x="7827840" y="3213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5"/>
          <a:stretch/>
        </p:blipFill>
        <p:spPr>
          <a:xfrm>
            <a:off x="7408800" y="3933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5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2231" descr=""/>
          <p:cNvPicPr/>
          <p:nvPr/>
        </p:nvPicPr>
        <p:blipFill>
          <a:blip r:embed="rId1"/>
          <a:stretch/>
        </p:blipFill>
        <p:spPr>
          <a:xfrm>
            <a:off x="109440" y="1181160"/>
            <a:ext cx="8925120" cy="449568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2"/>
          <a:stretch/>
        </p:blipFill>
        <p:spPr>
          <a:xfrm>
            <a:off x="900000" y="283680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3"/>
          <a:stretch/>
        </p:blipFill>
        <p:spPr>
          <a:xfrm>
            <a:off x="755640" y="3573360"/>
            <a:ext cx="3240000" cy="44784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4"/>
          <a:stretch/>
        </p:blipFill>
        <p:spPr>
          <a:xfrm>
            <a:off x="900000" y="4351320"/>
            <a:ext cx="3240360" cy="4478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5"/>
          <a:stretch/>
        </p:blipFill>
        <p:spPr>
          <a:xfrm>
            <a:off x="885960" y="5013360"/>
            <a:ext cx="3240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9:02:21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